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13D-9F47-4CED-A238-066CD1EC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E23-1A43-43CE-955B-731749F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BCB-BAC9-4EF0-82F8-7093B666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D0A-B622-4968-99A3-3112C1C6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FCFC-2818-4C66-A801-362AE12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970-AE39-4787-98E1-063B4389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AD4A-6502-413A-B208-476BF7B3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AB13-9628-42B3-99A8-3BE0E0B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E3FE-5BC1-4AB4-9E7C-D5BF7891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E338-398C-4730-8436-33730F52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FC86-3497-4AE1-9F8B-9DC7DE6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6ED-523E-4214-AB37-8FBB3E2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BB9-0D49-4BEA-9C57-88819DE7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20D1-8B02-4D71-85C7-E5A59BF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1A02-53F2-4ED1-BA4C-A123DB7B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E1A9-5645-46C7-B3CD-11117A17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A450-BFC4-4F63-9256-6CE38EB1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A28E-081C-42DD-A2BD-C32BF0EA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9823-C28E-43A4-9923-B8F790B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0297-56F8-4468-8453-2BD6228F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FCD0-7A3F-4FBD-B9C5-6F9921A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EBCB-6143-49D7-AC63-22081E79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055-B024-484B-A805-9D3956E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19D1-6EF6-482D-A587-09FF6437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151E-21DE-46A7-B244-EE566AA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AD70-C972-40E3-B8D5-7AE9498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E5A5-2320-4FA9-A70A-E59D9AEA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6A61-83DB-4FDD-9726-54B6E18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9E02-7FF2-43F9-A044-54279126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C986-0674-4D9F-8EE9-B1531A0A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48CD1-6C24-4B1A-BD13-E0091F6F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81E7-4240-49C6-8CFA-F9064D9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C9AC-284D-422C-B343-F2D18D2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9B0-933A-48CD-BF83-B43EBA51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3DE4-0BA8-4EA8-96ED-5E95FE73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4160-2067-446D-8A9E-36E63BD1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D4AC-0E3B-47A0-ABF6-5725CFEF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CB49-A8BF-433B-AADB-2DCCA53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AE96-C516-480E-8497-13D0EE3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556D9-8523-4999-89F1-CF7BC95D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3B00-F171-4BC6-B9B5-D47C2AE0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7507-4B00-4FE9-A5F1-7CB926BF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01AB-847E-4DC7-B558-0AAEFF99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FB8A-32B0-42B0-A935-87043150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354-B35D-454E-964B-CC93041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C6911-C9DA-4440-8DCE-F20C4F11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BD95-F12D-4AD0-AF80-58DDF6C2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1786-3CA1-410D-9C0E-0D21A821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BB8F-ECCC-48EC-9744-A669F40F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5535-5FD8-4B53-B20D-D9C80C44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7CC7-8C88-42F1-A65B-9206D2D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9A51-BC8C-40BA-A270-D367135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EB74-CBCD-490D-95A0-2A14D802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340D-FD00-4750-A4EB-CEA810E7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977B-1B67-459A-8563-9C093FC1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8F3-4DF1-4DF7-B59E-21A19090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20CE8-70CB-4231-98AB-BDAB50DF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58FDD-E6D4-4FE5-8E7F-061526B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143FF-0846-4C37-8597-9E763B9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9A3A9-AD14-42B8-9BA0-965C6A9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C03D-2FD7-47DE-A366-083E0095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BB2D-212F-4387-BD14-F03D2695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FCF4D-BCCC-4A5B-A00A-1C164170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0044-42F7-4B64-B152-0B87C7B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C35B-E6E0-419D-874A-F5F4D8D9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E616F-0138-4D41-B2A4-CE73812A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2D4-753D-4596-B347-E91E5F8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C94C0-FED2-459E-9412-F5101747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899FB-4FDD-4A6A-817E-139B19C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CE0A-8630-41E1-8560-3881FCB4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1F1-DDA8-49B3-A8BC-37722CA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40A-584E-4C0C-8AA1-86348D94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1DA4-1461-4D97-AAA4-531C13E758AE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5A1-CD4D-4A84-8EF9-3D58DE4E80D9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AC9-BA6B-4E81-8A30-B28E738F9FF6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F85E-DE83-451D-AFC8-4912EED39C47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A96-4CC4-40CE-AD70-1C3866434BF9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B3F2-0E01-4FC1-AED9-9DC9927733C5}" type="slidenum">
              <a:rPr b="0" lang="en-NZ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log.ratestogo.com/landmarks-in-new-zealand/" TargetMode="External"/><Relationship Id="rId2" Type="http://schemas.openxmlformats.org/officeDocument/2006/relationships/hyperlink" Target="http://www.euroclubschools.co.uk/page87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536400" y="426960"/>
            <a:ext cx="8186760" cy="1596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664000" y="51055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Franklin Gothic Book"/>
              </a:rPr>
              <a:t>By Ezekiel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100" spc="-1" strike="noStrike">
                <a:solidFill>
                  <a:srgbClr val="ffffff"/>
                </a:solidFill>
                <a:latin typeface="Franklin Gothic Book"/>
              </a:rPr>
              <a:t>Italy!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taly is a great country to study. It attracted me more to go there but one thing let me down. The construct of the building was classic but lovely, I have been told that the Italian’s are very strict and not used to American’s visiting.  They have their own special food like spaghetti and piz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100" spc="-1" strike="noStrike">
                <a:solidFill>
                  <a:srgbClr val="ffffff"/>
                </a:solidFill>
                <a:latin typeface="Franklin Gothic Book"/>
              </a:rPr>
              <a:t>More Italy!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Italy has a lot of landmarks all over them. Did you know? That Italy is shaped like a boot kicking Sicily like are rock. Venice is a city that is surrounded by water. When actually it is floating on water by tanks just like a boa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100" spc="-1" strike="noStrike">
                <a:solidFill>
                  <a:srgbClr val="ffffff"/>
                </a:solidFill>
                <a:latin typeface="Franklin Gothic Book"/>
              </a:rPr>
              <a:t>Landmarks.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The landmarks in Italy is incredible! Tall, lean ,bulky and stro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Most of the landmarks are really old and survived  natural calamities including earthquakes and lightning. The landmarks are the L.T.O.P, Colosseum, St Mark Square, Veni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New Zealand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NZ has modern structural design and is part of U.K. It is part of U.K because Captain Cook was the one who found the island. NZ has a large cultural diversity group. The food is very Europe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Landmarks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NZ has very natural and advanced landmarks. I have been to the Auckland Harbour Bridge, Mount Eden, One Tree Hill and the Auckland City Centr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Similarit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western nations,culturew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democra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buddies with the 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have a small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oth nations are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y're both on crustal plate margins so both have volcanoes and earthqu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Difference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an Italian speaking nation while New Zealand is an English speaking 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has a way longer history than NZ 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not an immigration nation while NZ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was a big part of world war 2 while NZ was n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there is only one nation on this planet where people speak Italian. There are lots of nations where English is spoken as a first langu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Italy is not lonely for it has France ,Spain and Switzerland around him while NZ is alone in the middle of the s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Credits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My Mom for some describing wor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Power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Web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blog.ratestogo.com/landmarks-in-new-zealand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http://www.euroclubschools.co.uk/page87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anks for looking at my wor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e Now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8:17:18Z</dcterms:created>
  <dc:creator>Jovy</dc:creator>
  <dc:description/>
  <dc:language>en-US</dc:language>
  <cp:lastModifiedBy>Jovy</cp:lastModifiedBy>
  <dcterms:modified xsi:type="dcterms:W3CDTF">2011-07-13T09:38:08Z</dcterms:modified>
  <cp:revision>9</cp:revision>
  <dc:subject/>
  <dc:title>What  Is Difference Between Italy and N.Z</dc:title>
</cp:coreProperties>
</file>